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69E0-B03B-49D2-953B-E950C70656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9581-1B4F-42F5-9AD3-3E4599EDBA4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9EB1-5EDB-4C76-9730-5A3D1A30F0C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4FAF-2C4F-48D4-AD88-8E774A8E41A2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484A-D130-4626-893D-2EF88D6B26C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821B-CED7-4A07-8959-A253D8C1586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2853-A6D8-49BD-AF4E-0EDCD90473A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B95B-81E5-47DE-B70E-B3EB7FD82AD3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8B7-77F5-458E-9A9C-E7AF71F4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DD9-4AFE-467D-8F84-91E6C4C3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953-2FAA-4C78-8381-070AB49F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DC5-36B9-447A-AC5E-5B709B26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FE3-3489-4C6E-B3EB-451FAD06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EE9-F508-4B11-8CEA-C5F5058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F05-DC08-4683-80DC-5DB5EE08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E83-E8A2-4525-B3B9-EE92A8DE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1BA-8780-46FF-B111-EA22AB7A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A7E-F7C1-4957-B4EE-9F612817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09A-4545-48EA-971D-5A1D348D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1D5-87E1-4F4C-999D-7446865E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CFFE-BA00-46E9-88B3-2317BE56C3C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an wdrażania kluczowych postulatów i rekomendacji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z „Białej Księgi Zasady Partnerstwa                na lata 2014-2020”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1828800" y="548640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Zespół Rady Dialogu Społecznego ds. Funduszy Europejskich, 3 kwietnia 201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</a:t>
            </a:r>
            <a:br>
              <a:rPr sz="3600"/>
            </a:b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5. Poprawa wykorzystania </a:t>
            </a:r>
            <a:br>
              <a:rPr sz="2400"/>
            </a:b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potencjału partnerów społecznych </a:t>
            </a:r>
            <a:br>
              <a:rPr sz="2400"/>
            </a:b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w realizacji polityk publicz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 realizacji w ocenie partnerów społecz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uża pozytywna zmiana na szczeblu krajowym, jednakże w badaniach jakościowych zrealizowanych przez ZRP bardzo często przytaczano przykłady, które świadczyły      o tym, że strona samorządowa na płaszczyźnie regionalnej traktuje zasadę partnerstwa wyłącznie jako formalność i nie podejmuje działań, które miałyby na celu rzeczywiste włączenie partnerów społecznych we wdrażanie E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az 16" descr=""/>
          <p:cNvPicPr/>
          <p:nvPr/>
        </p:nvPicPr>
        <p:blipFill>
          <a:blip r:embed="rId1"/>
          <a:stretch/>
        </p:blipFill>
        <p:spPr>
          <a:xfrm>
            <a:off x="6629400" y="990720"/>
            <a:ext cx="22906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 </a:t>
            </a:r>
            <a:br>
              <a:rPr sz="36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6. Zapewnienie partnerom społecznym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systematycznego i zinstytucjonalizowanego</a:t>
            </a:r>
            <a:r>
              <a:rPr b="1" lang="pl-PL" sz="24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udziału w procesie kształtowania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dokumentów progra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 realizacji w ocenie partnerów społecz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ołanie 44 grup roboczych przy komitetach monitorujących Regionalne Programy Operac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Symbol zastępczy zawartości 4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681516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Obraz 6" descr=""/>
          <p:cNvPicPr/>
          <p:nvPr/>
        </p:nvPicPr>
        <p:blipFill>
          <a:blip r:embed="rId2"/>
          <a:stretch/>
        </p:blipFill>
        <p:spPr>
          <a:xfrm>
            <a:off x="6553080" y="1066680"/>
            <a:ext cx="23529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 </a:t>
            </a:r>
            <a:br>
              <a:rPr sz="36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6. Zapewnienie partnerom społecznym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systematycznego i zinstytucjonalizowanego</a:t>
            </a:r>
            <a:r>
              <a:rPr b="1" lang="pl-PL" sz="24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udziału w procesie kształtowania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dokumentów progra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Grupy robocze przy KM RPO w poszczególnych województw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mitet Monitorujący Regionalny Program Operacyjny Województwa  Dolnośląskiego 2014-2020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upa robocza ds. ekonomii i włączenia społecz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upa robocza ds. zrównoważonego rozwo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upa robocza ds. przedsiębiorstw i innow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Symbol zastępczy zawartości 4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257800" cy="762120"/>
          </a:xfrm>
          <a:prstGeom prst="rect">
            <a:avLst/>
          </a:prstGeom>
          <a:ln w="0">
            <a:noFill/>
          </a:ln>
        </p:spPr>
      </p:pic>
      <p:pic>
        <p:nvPicPr>
          <p:cNvPr id="107" name="Obraz 6" descr=""/>
          <p:cNvPicPr/>
          <p:nvPr/>
        </p:nvPicPr>
        <p:blipFill>
          <a:blip r:embed="rId2"/>
          <a:stretch/>
        </p:blipFill>
        <p:spPr>
          <a:xfrm>
            <a:off x="6553080" y="1066680"/>
            <a:ext cx="23529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 </a:t>
            </a:r>
            <a:br>
              <a:rPr sz="36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6. Zapewnienie partnerom społecznym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systematycznego i zinstytucjonalizowanego</a:t>
            </a:r>
            <a:r>
              <a:rPr b="1" lang="pl-PL" sz="24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udziału w procesie kształtowania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dokumentów progra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Grupy robocze przy KM RPO w poszczególnych województw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mitet Monitorujący Regionalny Program Operacyjny Województwa Kujawsk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morskiego 2014-202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kryteriów wyboru projektó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Zintegrowanych Inwestycji Terytorialnych (Z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badań i innowacj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Europejskiego Funduszu Społecznego (EF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zrównoważonego rozwoj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koordynacji interwencji w sektorze Zdrowi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Rozwoju Lokalnego Kierowanego przez Społeczność (RLK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mitet Monitorujący Regionalny Program Operacyjny Lubuskie 202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„Gospodarka i innowac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Europejskiego Funduszu Społecz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„Wspólne Lubuskie – infrastruktura, środowisko, edukacj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raz 6" descr=""/>
          <p:cNvPicPr/>
          <p:nvPr/>
        </p:nvPicPr>
        <p:blipFill>
          <a:blip r:embed="rId1"/>
          <a:stretch/>
        </p:blipFill>
        <p:spPr>
          <a:xfrm>
            <a:off x="6553080" y="1066680"/>
            <a:ext cx="23529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 </a:t>
            </a:r>
            <a:br>
              <a:rPr sz="36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6. Zapewnienie partnerom społecznym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systematycznego i zinstytucjonalizowanego</a:t>
            </a:r>
            <a:r>
              <a:rPr b="1" lang="pl-PL" sz="24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udziału w procesie kształtowania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dokumentów progra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Grupy robocze przy KM RPO w poszczególnych województw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pl-PL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Komitet Monitorujący Regionalny Program Operacyjny Województw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pl-PL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azowieckiego na lata 2014-2020</a:t>
            </a:r>
            <a:r>
              <a:rPr b="1" lang="pl-P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ds. kryteriów wyboru projektów w sprawie Działania 7.1 Transport drogow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ds. kryteriów wyboru projektów w sprawie Działania 8.2 Aktywizacja zawodowa osób poszukujących pracy biernych zawodo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ds. kryteriów wyboru projektów w sprawie Działania 5.1 Dostosowanie do zmian klimatu i Działania 5.4 Ochrona bioróżnorodnośc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ds. kryteriów wyboru projektów w sprawie Działania 4.2 Efektywność energetyczna i Działania 4.3 Redukcja emisji zanieczyszczeń powietrza, Poddziałanie 4.3.2 Mobilność miejska w ramach Z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ds. kryteriów wyboru projektów w sprawie Działania 1.2 Działalność badawczo-rozwojowa przedsiębiorstw i Działania 3.1 Poprawa rozwoju MŚP na Mazowsz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ds. kryteriów wyboru projektów w sprawie Działania 9.3 Rozwój ekonomii społecznej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grupa robocza ds. kryteriów wyboru projektów w sprawie Działania 5.1 Dostosowanie do zmian klimat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ds. kryteriów wyboru projektów w sprawie Działania 10.1 Edukacja ogólna i przedszkolna, Poddziałania 10.1.1.1 Edukacja ogólna (w tym w szkołach zawodowych), Działania 10.2 Kompetencje kluczowe osób dorosłych i Działania 10.3 Doskonalenie zawodowe, Poddziałania 10.3.1 Doskonalenie zawodowe ucznió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ds. kryteriów wyboru projektów w sprawie Działania 9.2 Usługi społeczne i usługi opieki zdrowotnej, Poddziałania 9.2.1 Zwiększenie dostępności usług społeczny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w zakresie monitorowania postępu realizacji Osi Priorytetowej X- Edukacja dla rozwoju region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raz 6" descr=""/>
          <p:cNvPicPr/>
          <p:nvPr/>
        </p:nvPicPr>
        <p:blipFill>
          <a:blip r:embed="rId1"/>
          <a:stretch/>
        </p:blipFill>
        <p:spPr>
          <a:xfrm>
            <a:off x="6553080" y="1066680"/>
            <a:ext cx="23529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 </a:t>
            </a:r>
            <a:br>
              <a:rPr sz="36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6. Zapewnienie partnerom społecznym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systematycznego i zinstytucjonalizowanego</a:t>
            </a:r>
            <a:r>
              <a:rPr b="1" lang="pl-PL" sz="24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udziału w procesie kształtowania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dokumentów progra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Grupy robocze przy KM RPO w poszczególnych województw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pl-PL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Komitet Monitorujący Regionalny Program Operacyjny Województw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pl-PL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azowieckiego na lata 2014-2020</a:t>
            </a:r>
            <a:r>
              <a:rPr b="1" lang="pl-PL" sz="1300" spc="-1" strike="noStrike">
                <a:solidFill>
                  <a:srgbClr val="000000"/>
                </a:solidFill>
                <a:latin typeface="Arial"/>
              </a:rPr>
              <a:t> c.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w zakresie monitorowania postępu realizacji Osi Priorytetowej IX- Wspieranie włączenia społecznego i walka z ubóstwe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w zakresie monitorowania postępu realizacji Osi Priorytetowej VIII – Rozwój rynku pra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w zakresie monitorowania postępu realizacji Osi Priorytetowej VI – Jakość życ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w zakresie monitorowania postępu realizacji Osi Priorytetowej V – Gospodarka przyjazna środowisk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w zakresie monitorowania postępu realizacji Osi Priorytetowej III – Rozwój potencjału innowacyjnego i przedsiębiorczośc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w zakresie monitorowania postępu realizacji Osi Priorytetowej II – Wzrost potencjału Mazowsz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w zakresie monitorowania postępu realizacji Osi Priorytetowej I – Wykorzystanie działalności badawczo-rozwojowej w gospodar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ds. horyzontalnych w ramach RPO WM na lata 2014-20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w zakresie monitorowania postępu realizacji Osi Priorytetowej IV – Przejście na gospodarkę niskoemisyjn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Grupa robocza w zakresie monitorowania postępu realizacji Osi Priorytetowej VII – Rozwój regionalnego systemu transportowe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raz 6" descr=""/>
          <p:cNvPicPr/>
          <p:nvPr/>
        </p:nvPicPr>
        <p:blipFill>
          <a:blip r:embed="rId1"/>
          <a:stretch/>
        </p:blipFill>
        <p:spPr>
          <a:xfrm>
            <a:off x="6553080" y="1066680"/>
            <a:ext cx="23529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 </a:t>
            </a:r>
            <a:br>
              <a:rPr sz="36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6. Zapewnienie partnerom społecznym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systematycznego i zinstytucjonalizowanego</a:t>
            </a:r>
            <a:r>
              <a:rPr b="1" lang="pl-PL" sz="24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udziału w procesie kształtowania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dokumentów progra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Grupy robocze przy KM RPO w poszczególnych województw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mitet Monitorujący Regionalny Program Operacyjny Województw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dkarpackiego na lata 2014-202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Zintegrowanych Inwestycji Terytorialnych (ZIT) oraz M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zrównoważonego rozwoju i energ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zdrow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mitet Monitorujący Regionalny Program Operacyjny Województw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dlaskiego na lata 2014-202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efektywnego wykorzystania Europejskiego Funduszu Społecznego w ramach RPOWP na lata 2014-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mitet Monitorujący Regionalny Program Operacyjny Województwa  Pomorskiego na lat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14-202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rupa Robocza organizacji pozarządowych województwa pomorskiego „Partner Klucz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az 6" descr=""/>
          <p:cNvPicPr/>
          <p:nvPr/>
        </p:nvPicPr>
        <p:blipFill>
          <a:blip r:embed="rId1"/>
          <a:stretch/>
        </p:blipFill>
        <p:spPr>
          <a:xfrm>
            <a:off x="6553080" y="1066680"/>
            <a:ext cx="23529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 </a:t>
            </a:r>
            <a:br>
              <a:rPr sz="36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6. Zapewnienie partnerom społecznym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systematycznego i zinstytucjonalizowanego</a:t>
            </a:r>
            <a:r>
              <a:rPr b="1" lang="pl-PL" sz="24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udziału w procesie kształtowania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dokumentów progra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Grupy robocze przy KM RPO w poszczególnych województw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mitet Monitorujący Regionalny Program Operacyjny Województw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Świętokrzyskiego na lata 2014-202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Europejskiego Funduszu Społecz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Zintegrowanych Inwestycji Terytorialn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mitet Monitorujący Regionalny Program Operacyjny Województwa Warmińsk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zurskiego na lata 2014-202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przedsiębiorczości i gospodar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eduka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włączenia społecznego i rynku 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mitet Monitorujący Wielkopolskie Regionalny Program Operacyjny na lata 201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20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pa Robocza ds. Społeczeństwa Obywatelski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az 6" descr=""/>
          <p:cNvPicPr/>
          <p:nvPr/>
        </p:nvPicPr>
        <p:blipFill>
          <a:blip r:embed="rId1"/>
          <a:stretch/>
        </p:blipFill>
        <p:spPr>
          <a:xfrm>
            <a:off x="6553080" y="1066680"/>
            <a:ext cx="23529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 </a:t>
            </a:r>
            <a:br>
              <a:rPr sz="36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6. Zapewnienie partnerom społecznym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systematycznego i zinstytucjonalizowanego</a:t>
            </a:r>
            <a:r>
              <a:rPr b="1" lang="pl-PL" sz="24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udziału w procesie kształtowania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dokumentów progra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stulujemy o wzmocnienie rangi grup roboczych funkcjonujących  w ramach Komitetów Monitorujących RP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Obecnie, pomimo powstania w wielu RPO grup roboczych, ich rola nie jest w pełni wykorzystana. Opinie i rekomendacje wypracowane przez partnerów społecznych, nie są w należytym stopniu brane pod uwagę przez IZ RPO. Nawet, jeśli grupa robocza KM RPO złożona                            z partnerów przygotuje własne rozwiązania lub postulaty usprawnień, nie muszą być one brane pod uwagę. IZ RPO może się z nimi zapoznać, ale nie musi ich przyjąć. Takie podejście wpływa z kolei na poziom zaangażowania ze strony partnerów społecznych w prace w ramach danego R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az 6" descr=""/>
          <p:cNvPicPr/>
          <p:nvPr/>
        </p:nvPicPr>
        <p:blipFill>
          <a:blip r:embed="rId1"/>
          <a:stretch/>
        </p:blipFill>
        <p:spPr>
          <a:xfrm>
            <a:off x="6553080" y="1066680"/>
            <a:ext cx="23529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  <a:ea typeface="Arial"/>
              </a:rPr>
              <a:t>Strategia Partnerstwa – postulaty </a:t>
            </a:r>
            <a:br>
              <a:rPr sz="3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7. Usprawnienie i zwiększenie 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przejrzystości konsultacji publicznych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Symbol zastępczy zawartości 3" descr=""/>
          <p:cNvPicPr/>
          <p:nvPr/>
        </p:nvPicPr>
        <p:blipFill>
          <a:blip r:embed="rId1"/>
          <a:stretch/>
        </p:blipFill>
        <p:spPr>
          <a:xfrm>
            <a:off x="820800" y="1523880"/>
            <a:ext cx="6946920" cy="838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152280" y="33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10" descr=""/>
          <p:cNvPicPr/>
          <p:nvPr/>
        </p:nvPicPr>
        <p:blipFill>
          <a:blip r:embed="rId2"/>
          <a:stretch/>
        </p:blipFill>
        <p:spPr>
          <a:xfrm>
            <a:off x="6553080" y="530280"/>
            <a:ext cx="2428920" cy="700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4"/>
          <p:cNvSpPr/>
          <p:nvPr/>
        </p:nvSpPr>
        <p:spPr>
          <a:xfrm>
            <a:off x="685800" y="28195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 realizacji w ocenie partnerów społecznych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ak odpowiedniego włączenia partnerów społecznych już na et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ktowania rozwiązania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Dużym wyzwaniem dla regionalnych partnerów społecznych jest włączenie ich w proces projektowania rozwiązań finansowanych z EFS (już na etapie koncepcji, powstawania pomysłu danego rozwiązania). Powszechnie stosowanym rozwiązaniem na poziomie krajowym jest zbieranie uwag już na etapie tworzenia koncepcji rozwiązania systemowego lub projektu pozakonkursoweg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iestety, n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ziomie regionalnym partnerzy społeczni są informowani, dopiero wtedy, jak projekty rozwiązań będą w całości gotow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 Najczęściej czas na przeprowadzenie konsultacji jest wtedy bardzo ograniczony. Przykładem tego, jest niedopracowanie koncepcji i zasad wsparcia przedsiębiorców MŚP w ramach PSF z działania 8.6 Regionalnego Programu Operacyjnego Województwa Dolnośląskieg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2"/>
          <p:cNvSpPr/>
          <p:nvPr/>
        </p:nvSpPr>
        <p:spPr>
          <a:xfrm>
            <a:off x="2819520" y="624852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7800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naliza wdrażania postulatów i rekomendacji zawartych                 w Białej Księdze Zasady Partnerstwa w ramach projektów partnerów społecznych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jekty realizowan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ramach konkursu dotacji n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ARCIE ZASADY PARNTERSTWA ORAZ PROCESU KOORDYNACJI WE WDRAŻANIU EFS W POLSCE W LATACH 2014-2020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organizowanego przez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stytucję Zarządzającą Programem Operacyjnym Wiedza Edukacja Rozwój 2014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  <a:ea typeface="Arial"/>
              </a:rPr>
              <a:t>Strategia Partnerstwa – postulaty</a:t>
            </a:r>
            <a:br>
              <a:rPr sz="3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9. Poprawa wykorzystania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potencjału partnerów społecznych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w realizacji projektów pozakonkursowych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dotyczących polityk publicz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 realizacji w ocenie partnerów społeczny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rak tego typu działań. IZ RPO powinny wziąć przykład z PO WER, gdzie partnerzy społeczni realizują już tego typu projek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Symbol zastępczy zawartości 3" descr=""/>
          <p:cNvPicPr/>
          <p:nvPr/>
        </p:nvPicPr>
        <p:blipFill>
          <a:blip r:embed="rId1"/>
          <a:stretch/>
        </p:blipFill>
        <p:spPr>
          <a:xfrm>
            <a:off x="1276200" y="1752480"/>
            <a:ext cx="659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152280" y="33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13" descr=""/>
          <p:cNvPicPr/>
          <p:nvPr/>
        </p:nvPicPr>
        <p:blipFill>
          <a:blip r:embed="rId2"/>
          <a:stretch/>
        </p:blipFill>
        <p:spPr>
          <a:xfrm>
            <a:off x="6562800" y="762120"/>
            <a:ext cx="258120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  <a:ea typeface="Arial"/>
              </a:rPr>
              <a:t>Strategia Partnerstwa – postulaty</a:t>
            </a:r>
            <a:br>
              <a:rPr sz="3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11. Poprawa jakości reprezentacji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pracodawców i pracowników na forum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Stan realizacji w ocenie partnerów społecz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kłady pozytywnych zmian w regulaminach KM RPO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 szczegóły w prezentacji E. Wielg z NSZZ Solidarność )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rtnerzy w niektórych  przypadkach mogą zlecać opracowanie określonych ekspertyz i analiz – widoczna jest jednak niezadowalająca aktywność w tym zakresie w wielu regionach. Przyczyna takiego stanu rzeczy leży po obu stron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dal brak wyodrębnionych budżetów dla partnerów spoza administracji na prowadzenie konsultacji i przygotowywanie stanowisk reprezentowanego środowiska, regiony nie skorzystały z dobrego przykładu jakim jest KM PO Wiedza Edukacja Rozwój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y spowodowane jest to tylko brakiem środków w pomocy technicznej danego RP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Symbol zastępczy zawartości 3" descr=""/>
          <p:cNvPicPr/>
          <p:nvPr/>
        </p:nvPicPr>
        <p:blipFill>
          <a:blip r:embed="rId1"/>
          <a:stretch/>
        </p:blipFill>
        <p:spPr>
          <a:xfrm>
            <a:off x="1276200" y="1752480"/>
            <a:ext cx="659160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152280" y="33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az 13" descr=""/>
          <p:cNvPicPr/>
          <p:nvPr/>
        </p:nvPicPr>
        <p:blipFill>
          <a:blip r:embed="rId2"/>
          <a:stretch/>
        </p:blipFill>
        <p:spPr>
          <a:xfrm>
            <a:off x="6562800" y="762120"/>
            <a:ext cx="258120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  <a:ea typeface="Arial"/>
              </a:rPr>
              <a:t>Strategia Partnerstwa – postulaty</a:t>
            </a:r>
            <a:br>
              <a:rPr sz="3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11. Poprawa jakości reprezentacji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pracodawców i pracowników na forum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dal postulujemy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ymbol zastępczy zawartości 3" descr=""/>
          <p:cNvPicPr/>
          <p:nvPr/>
        </p:nvPicPr>
        <p:blipFill>
          <a:blip r:embed="rId1"/>
          <a:stretch/>
        </p:blipFill>
        <p:spPr>
          <a:xfrm>
            <a:off x="1276200" y="1752480"/>
            <a:ext cx="65916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152280" y="33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13" descr=""/>
          <p:cNvPicPr/>
          <p:nvPr/>
        </p:nvPicPr>
        <p:blipFill>
          <a:blip r:embed="rId2"/>
          <a:stretch/>
        </p:blipFill>
        <p:spPr>
          <a:xfrm>
            <a:off x="6562800" y="762120"/>
            <a:ext cx="2581200" cy="742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685800" y="3646440"/>
            <a:ext cx="799632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  <a:ea typeface="Arial"/>
              </a:rPr>
              <a:t>Strategia Partnerstwa – postulaty</a:t>
            </a:r>
            <a:br>
              <a:rPr sz="3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13. Zwiększenie wpływu partnerów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społecznych na prace KM programy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operacyjne krajowe i region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7276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 realizacji w ocenie partnerów społecz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rak nowej formuły protokołów w większości regionów, stosunkowo znikome uwzględnianie stanowisk i uwag partnerów spoza administracji, nadal postulujemy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Symbol zastępczy zawartości 3" descr=""/>
          <p:cNvPicPr/>
          <p:nvPr/>
        </p:nvPicPr>
        <p:blipFill>
          <a:blip r:embed="rId1"/>
          <a:stretch/>
        </p:blipFill>
        <p:spPr>
          <a:xfrm>
            <a:off x="1276200" y="1752480"/>
            <a:ext cx="6591600" cy="1143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152280" y="33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raz 13" descr=""/>
          <p:cNvPicPr/>
          <p:nvPr/>
        </p:nvPicPr>
        <p:blipFill>
          <a:blip r:embed="rId2"/>
          <a:stretch/>
        </p:blipFill>
        <p:spPr>
          <a:xfrm>
            <a:off x="6562800" y="762120"/>
            <a:ext cx="2581200" cy="74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6858000" cy="990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4"/>
          <a:stretch/>
        </p:blipFill>
        <p:spPr>
          <a:xfrm>
            <a:off x="533520" y="5334120"/>
            <a:ext cx="68580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  <a:ea typeface="Arial"/>
              </a:rPr>
              <a:t>Strategia Partnerstwa – postulaty</a:t>
            </a:r>
            <a:br>
              <a:rPr sz="3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13. Zwiększenie wpływu partnerów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społecznych na prace KM programy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operacyjne krajowe i region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52280" y="33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raz 13" descr=""/>
          <p:cNvPicPr/>
          <p:nvPr/>
        </p:nvPicPr>
        <p:blipFill>
          <a:blip r:embed="rId1"/>
          <a:stretch/>
        </p:blipFill>
        <p:spPr>
          <a:xfrm>
            <a:off x="6562800" y="762120"/>
            <a:ext cx="2581200" cy="742680"/>
          </a:xfrm>
          <a:prstGeom prst="rect">
            <a:avLst/>
          </a:prstGeom>
          <a:ln w="0">
            <a:noFill/>
          </a:ln>
        </p:spPr>
      </p:pic>
      <p:pic>
        <p:nvPicPr>
          <p:cNvPr id="159" name="Tabela 1" descr=""/>
          <p:cNvPicPr/>
          <p:nvPr/>
        </p:nvPicPr>
        <p:blipFill>
          <a:blip r:embed="rId2"/>
          <a:stretch/>
        </p:blipFill>
        <p:spPr>
          <a:xfrm>
            <a:off x="457200" y="2004840"/>
            <a:ext cx="822960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  <a:ea typeface="Arial"/>
              </a:rPr>
              <a:t>Strategia Partnerstwa – postulaty</a:t>
            </a:r>
            <a:br>
              <a:rPr sz="3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14. Poprawa efektywności prac KM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(efektywność jako relacja nakładu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pracy do osiąganych rezultató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 realizacji w ocenie partnerów społeczny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Spora poprawa w tym zakresie, szczególnie w zakresie terminów przekazywania materiałów na posiedzenia ,             w niektórych regionach partnerzy nadal mają zbyt mało czasu na właściwego przygotowanie się do posiedzeń co przekłada się na ich poziom zaangażowania i obniża efektywność pracu danego komitetu monitorując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Symbol zastępczy zawartości 3" descr=""/>
          <p:cNvPicPr/>
          <p:nvPr/>
        </p:nvPicPr>
        <p:blipFill>
          <a:blip r:embed="rId1"/>
          <a:stretch/>
        </p:blipFill>
        <p:spPr>
          <a:xfrm>
            <a:off x="1276200" y="1752480"/>
            <a:ext cx="6591600" cy="1143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52280" y="33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az 13" descr=""/>
          <p:cNvPicPr/>
          <p:nvPr/>
        </p:nvPicPr>
        <p:blipFill>
          <a:blip r:embed="rId2"/>
          <a:stretch/>
        </p:blipFill>
        <p:spPr>
          <a:xfrm>
            <a:off x="6562800" y="762120"/>
            <a:ext cx="258120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Strategia Partnerstwa – postulaty</a:t>
            </a:r>
            <a:br>
              <a:rPr sz="3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15. Wykorzystanie potencjału organizacji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reprezentujących pracodawców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i pracowników w realizacji ewaluacji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i monitorowaniu wdrażania rekomendacji z ewalu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 realizacji w ocenie partnerów społecz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dal w zasadzie nie zrealizowany postulat. I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O powinny wykorzyst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pory potencj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elu regionalnych organizacji pracodawców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cowników w tym zakres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ymbol zastępczy zawartości 5" descr=""/>
          <p:cNvPicPr/>
          <p:nvPr/>
        </p:nvPicPr>
        <p:blipFill>
          <a:blip r:embed="rId1"/>
          <a:stretch/>
        </p:blipFill>
        <p:spPr>
          <a:xfrm>
            <a:off x="927000" y="1905120"/>
            <a:ext cx="7288200" cy="1117440"/>
          </a:xfrm>
          <a:prstGeom prst="rect">
            <a:avLst/>
          </a:prstGeom>
          <a:ln w="0">
            <a:noFill/>
          </a:ln>
        </p:spPr>
      </p:pic>
      <p:pic>
        <p:nvPicPr>
          <p:cNvPr id="168" name="Obraz 4" descr=""/>
          <p:cNvPicPr/>
          <p:nvPr/>
        </p:nvPicPr>
        <p:blipFill>
          <a:blip r:embed="rId2"/>
          <a:stretch/>
        </p:blipFill>
        <p:spPr>
          <a:xfrm>
            <a:off x="6400800" y="530280"/>
            <a:ext cx="25812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Arial"/>
                <a:ea typeface="Arial"/>
              </a:rPr>
              <a:t>Strategia Partnerstwa – postulaty</a:t>
            </a:r>
            <a:br>
              <a:rPr sz="3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16. Wykorzystanie potencjału organizacji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reprezentujących pracodawców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i pracowników w planowaniu i realizacji </a:t>
            </a:r>
            <a:br>
              <a:rPr sz="2000"/>
            </a:br>
            <a:r>
              <a:rPr b="1" lang="pl-PL" sz="2000" spc="-1" strike="noStrike">
                <a:solidFill>
                  <a:srgbClr val="3366ff"/>
                </a:solidFill>
                <a:latin typeface="Arial"/>
              </a:rPr>
              <a:t>działań informacyjno-promocyjnych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 realizacji w ocenie partnerów społecz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owołanie grupy roboczej w woj. dolnośląskim, brak możliwości realizacji tego typu działań w większości regionów. Nadal postulujemy 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ymbol zastępczy zawartości 7" descr=""/>
          <p:cNvPicPr/>
          <p:nvPr/>
        </p:nvPicPr>
        <p:blipFill>
          <a:blip r:embed="rId1"/>
          <a:stretch/>
        </p:blipFill>
        <p:spPr>
          <a:xfrm>
            <a:off x="757080" y="1905120"/>
            <a:ext cx="7629840" cy="10699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152280" y="33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az 6" descr=""/>
          <p:cNvPicPr/>
          <p:nvPr/>
        </p:nvPicPr>
        <p:blipFill>
          <a:blip r:embed="rId2"/>
          <a:stretch/>
        </p:blipFill>
        <p:spPr>
          <a:xfrm>
            <a:off x="6400800" y="530280"/>
            <a:ext cx="2581200" cy="743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762120" y="4724280"/>
            <a:ext cx="70088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orbert Pruszanowski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Dyrektor Zespołu Funduszy Unijnych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Związek Rzemiosła Polskiego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2"/>
          <p:cNvSpPr/>
          <p:nvPr/>
        </p:nvSpPr>
        <p:spPr>
          <a:xfrm>
            <a:off x="2819520" y="624852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7800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kładowe materiały analizujące stan wdrażania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sady partnerstwa w regio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1"/>
          <p:cNvSpPr/>
          <p:nvPr/>
        </p:nvSpPr>
        <p:spPr>
          <a:xfrm>
            <a:off x="1295280" y="1752480"/>
            <a:ext cx="7010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pl-PL" sz="2400" spc="-1" strike="noStrike">
                <a:solidFill>
                  <a:srgbClr val="7030a0"/>
                </a:solidFill>
                <a:latin typeface="Arial"/>
                <a:ea typeface="Arial"/>
              </a:rPr>
              <a:t>Raport z badania barier we wdrażaniu zasady  partnerstwa w programach operacyjn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030a0"/>
                </a:solidFill>
                <a:latin typeface="Arial"/>
                <a:ea typeface="Arial"/>
              </a:rPr>
              <a:t>    </a:t>
            </a:r>
            <a:r>
              <a:rPr b="0" lang="pl-PL" sz="2400" spc="-1" strike="noStrike">
                <a:solidFill>
                  <a:srgbClr val="7030a0"/>
                </a:solidFill>
                <a:latin typeface="Arial"/>
                <a:ea typeface="Arial"/>
              </a:rPr>
              <a:t>finansowanych z Europejskiego Funduszu Społeczneg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pracowanie Związku Rzemiosła Polskieg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pl-PL" sz="2400" spc="-1" strike="noStrike">
                <a:solidFill>
                  <a:srgbClr val="0070c0"/>
                </a:solidFill>
                <a:latin typeface="Arial"/>
                <a:ea typeface="Arial"/>
              </a:rPr>
              <a:t>Identyfikacja barier i problemów we wdrażaniu EFS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 ekspertyza Dolnośląskich Pracodawców – członka Konfederacji Lewiatan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2819520" y="624852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40" y="83808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6b6bcf"/>
                </a:solidFill>
                <a:latin typeface="Arial"/>
              </a:rPr>
              <a:t>KIM SĄ PARTNERZY SPOZA ADMINISTRACJI </a:t>
            </a:r>
            <a:r>
              <a:rPr b="1" lang="pl-PL" sz="3000" spc="-1" strike="noStrike">
                <a:solidFill>
                  <a:srgbClr val="6b6bc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e tekstowe 16"/>
          <p:cNvSpPr/>
          <p:nvPr/>
        </p:nvSpPr>
        <p:spPr>
          <a:xfrm flipH="1">
            <a:off x="457200" y="259092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artnerzy spoza administracj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odmioty, które nie wchodzą w skład lub nie działają na zlecenie administracji krajowej i samorządowej, a jednocześnie uczestniczą w procesie programowania, wdrażania, monitorowania i ewaluacji polityki spójności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upa 1"/>
          <p:cNvGrpSpPr/>
          <p:nvPr/>
        </p:nvGrpSpPr>
        <p:grpSpPr>
          <a:xfrm>
            <a:off x="380880" y="1565280"/>
            <a:ext cx="8331480" cy="4530600"/>
            <a:chOff x="380880" y="1565280"/>
            <a:chExt cx="8331480" cy="4530600"/>
          </a:xfrm>
        </p:grpSpPr>
        <p:sp>
          <p:nvSpPr>
            <p:cNvPr id="60" name="Prostokąt zaokrąglony 28"/>
            <p:cNvSpPr/>
            <p:nvPr/>
          </p:nvSpPr>
          <p:spPr>
            <a:xfrm>
              <a:off x="4814640" y="5155920"/>
              <a:ext cx="389772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ZWIĄZKI SAMORZĄDU ZAWODOWEG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rostokąt zaokrąglony 27"/>
            <p:cNvSpPr/>
            <p:nvPr/>
          </p:nvSpPr>
          <p:spPr>
            <a:xfrm>
              <a:off x="4814640" y="5529240"/>
              <a:ext cx="389772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ORGANIZACJE ŚRODOWISKA NAUKOWEG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Prostokąt zaokrąglony 37"/>
            <p:cNvSpPr/>
            <p:nvPr/>
          </p:nvSpPr>
          <p:spPr>
            <a:xfrm>
              <a:off x="4814640" y="3751920"/>
              <a:ext cx="389772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IZBY GOSPODARCZ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załka w dół 35"/>
            <p:cNvSpPr/>
            <p:nvPr/>
          </p:nvSpPr>
          <p:spPr>
            <a:xfrm rot="16200000">
              <a:off x="4511880" y="3786840"/>
              <a:ext cx="196200" cy="248400"/>
            </a:xfrm>
            <a:prstGeom prst="downArrow">
              <a:avLst>
                <a:gd name="adj1" fmla="val 50000"/>
                <a:gd name="adj2" fmla="val 316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 fontScale="2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trzałka w dół 34"/>
            <p:cNvSpPr/>
            <p:nvPr/>
          </p:nvSpPr>
          <p:spPr>
            <a:xfrm rot="16200000">
              <a:off x="4511880" y="4829760"/>
              <a:ext cx="196200" cy="248400"/>
            </a:xfrm>
            <a:prstGeom prst="downArrow">
              <a:avLst>
                <a:gd name="adj1" fmla="val 50000"/>
                <a:gd name="adj2" fmla="val 316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 fontScale="2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załka w dół 33"/>
            <p:cNvSpPr/>
            <p:nvPr/>
          </p:nvSpPr>
          <p:spPr>
            <a:xfrm rot="16200000">
              <a:off x="4511880" y="2741040"/>
              <a:ext cx="196200" cy="248400"/>
            </a:xfrm>
            <a:prstGeom prst="downArrow">
              <a:avLst>
                <a:gd name="adj1" fmla="val 50000"/>
                <a:gd name="adj2" fmla="val 316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 fontScale="2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trzałka w dół 32"/>
            <p:cNvSpPr/>
            <p:nvPr/>
          </p:nvSpPr>
          <p:spPr>
            <a:xfrm rot="16200000">
              <a:off x="4511880" y="5237280"/>
              <a:ext cx="196200" cy="248400"/>
            </a:xfrm>
            <a:prstGeom prst="downArrow">
              <a:avLst>
                <a:gd name="adj1" fmla="val 50000"/>
                <a:gd name="adj2" fmla="val 316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 fontScale="2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trzałka w dół 31"/>
            <p:cNvSpPr/>
            <p:nvPr/>
          </p:nvSpPr>
          <p:spPr>
            <a:xfrm rot="16200000">
              <a:off x="4511880" y="5644800"/>
              <a:ext cx="196200" cy="248400"/>
            </a:xfrm>
            <a:prstGeom prst="downArrow">
              <a:avLst>
                <a:gd name="adj1" fmla="val 50000"/>
                <a:gd name="adj2" fmla="val 316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 fontScale="2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załka w dół 25"/>
            <p:cNvSpPr/>
            <p:nvPr/>
          </p:nvSpPr>
          <p:spPr>
            <a:xfrm rot="16200000">
              <a:off x="4511880" y="4150080"/>
              <a:ext cx="196200" cy="248400"/>
            </a:xfrm>
            <a:prstGeom prst="downArrow">
              <a:avLst>
                <a:gd name="adj1" fmla="val 50000"/>
                <a:gd name="adj2" fmla="val 316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 fontScale="2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trzałka w dół 24"/>
            <p:cNvSpPr/>
            <p:nvPr/>
          </p:nvSpPr>
          <p:spPr>
            <a:xfrm rot="16200000">
              <a:off x="4511880" y="3141360"/>
              <a:ext cx="196200" cy="248400"/>
            </a:xfrm>
            <a:prstGeom prst="downArrow">
              <a:avLst>
                <a:gd name="adj1" fmla="val 50000"/>
                <a:gd name="adj2" fmla="val 316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 fontScale="2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rostokąt zaokrąglony 36"/>
            <p:cNvSpPr/>
            <p:nvPr/>
          </p:nvSpPr>
          <p:spPr>
            <a:xfrm>
              <a:off x="4814640" y="4102920"/>
              <a:ext cx="389772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INSTYTUCJE OTOCZENIA BIZNESU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załka w dół 39"/>
            <p:cNvSpPr/>
            <p:nvPr/>
          </p:nvSpPr>
          <p:spPr>
            <a:xfrm rot="16200000">
              <a:off x="253800" y="2894040"/>
              <a:ext cx="603720" cy="349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 fontScale="6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rostokąt zaokrąglony 30"/>
            <p:cNvSpPr/>
            <p:nvPr/>
          </p:nvSpPr>
          <p:spPr>
            <a:xfrm>
              <a:off x="4814640" y="4782960"/>
              <a:ext cx="389772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ORGANIZACJE POZARZĄDOW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załka w dół 38"/>
            <p:cNvSpPr/>
            <p:nvPr/>
          </p:nvSpPr>
          <p:spPr>
            <a:xfrm rot="16200000">
              <a:off x="253800" y="3915360"/>
              <a:ext cx="603720" cy="349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 fontScale="6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rostokąt zaokrąglony 43"/>
            <p:cNvSpPr/>
            <p:nvPr/>
          </p:nvSpPr>
          <p:spPr>
            <a:xfrm>
              <a:off x="380880" y="1565280"/>
              <a:ext cx="8331480" cy="1001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PARTNERZY SPOZA ADMINISTRACJ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biorący udział w systemie realizacji polityki spójności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rostokąt zaokrąglony 19"/>
            <p:cNvSpPr/>
            <p:nvPr/>
          </p:nvSpPr>
          <p:spPr>
            <a:xfrm>
              <a:off x="847440" y="2693880"/>
              <a:ext cx="3500640" cy="75060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PARTNERZY SPOŁECZN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rostokąt zaokrąglony 42"/>
            <p:cNvSpPr/>
            <p:nvPr/>
          </p:nvSpPr>
          <p:spPr>
            <a:xfrm>
              <a:off x="4815000" y="2693880"/>
              <a:ext cx="3897360" cy="372960"/>
            </a:xfrm>
            <a:prstGeom prst="roundRect">
              <a:avLst>
                <a:gd name="adj" fmla="val 16667"/>
              </a:avLst>
            </a:prstGeom>
            <a:solidFill>
              <a:srgbClr val="1e4649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Cambria"/>
                  <a:ea typeface="Times New Roman"/>
                </a:rPr>
                <a:t>REPREZENTATYWNI PARTNERZY SPOŁECZN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załka w dół 22"/>
            <p:cNvSpPr/>
            <p:nvPr/>
          </p:nvSpPr>
          <p:spPr>
            <a:xfrm rot="16200000">
              <a:off x="253800" y="5105520"/>
              <a:ext cx="603720" cy="349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 fontScale="6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rostokąt zaokrąglony 41"/>
            <p:cNvSpPr/>
            <p:nvPr/>
          </p:nvSpPr>
          <p:spPr>
            <a:xfrm>
              <a:off x="4815000" y="3074760"/>
              <a:ext cx="3897360" cy="372960"/>
            </a:xfrm>
            <a:prstGeom prst="roundRect">
              <a:avLst>
                <a:gd name="adj" fmla="val 16667"/>
              </a:avLst>
            </a:prstGeom>
            <a:solidFill>
              <a:srgbClr val="3c8c93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POZOSTALI PARTNERZY SPOŁECZN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rostokąt zaokrąglony 40"/>
            <p:cNvSpPr/>
            <p:nvPr/>
          </p:nvSpPr>
          <p:spPr>
            <a:xfrm>
              <a:off x="847440" y="3715200"/>
              <a:ext cx="3500280" cy="721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PARTNERZY GOSPODARCZY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Prostokąt zaokrąglony 21"/>
            <p:cNvSpPr/>
            <p:nvPr/>
          </p:nvSpPr>
          <p:spPr>
            <a:xfrm>
              <a:off x="847440" y="4682160"/>
              <a:ext cx="3500280" cy="1413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Cambria"/>
                  <a:ea typeface="Times New Roman"/>
                </a:rPr>
                <a:t>PODMIOTY REPREZENTUJĄCE SPOŁECZEŃSTWO OBYWATELSKI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7"/>
          <p:cNvSpPr/>
          <p:nvPr/>
        </p:nvSpPr>
        <p:spPr>
          <a:xfrm>
            <a:off x="45720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IM SĄ PARTNERZY SPOZA ADMINISTACJ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trategia Partnerstwa – postulaty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rzypominam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819520" y="624852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1"/>
          <p:cNvSpPr/>
          <p:nvPr/>
        </p:nvSpPr>
        <p:spPr>
          <a:xfrm flipH="1">
            <a:off x="304200" y="4795920"/>
            <a:ext cx="89154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Łączna liczba postulatów: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 ty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ostulaty skierowane do administracji: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34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ostulaty skierowane do partnerów spoza administracji: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raz 2" descr=""/>
          <p:cNvPicPr/>
          <p:nvPr/>
        </p:nvPicPr>
        <p:blipFill>
          <a:blip r:embed="rId1"/>
          <a:stretch/>
        </p:blipFill>
        <p:spPr>
          <a:xfrm>
            <a:off x="890640" y="1222200"/>
            <a:ext cx="7591320" cy="34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</a:t>
            </a:r>
            <a:br>
              <a:rPr sz="3600"/>
            </a:b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1. Podniesienie rangi zasady partnerstwa </a:t>
            </a:r>
            <a:br>
              <a:rPr sz="2400"/>
            </a:b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w systemie realizacji polityki spó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idoczna poprawa w tym zakresie mająca odzwierciedlenie w ustawie wdrożeniowej , wytycznych dot. realizacji zasady partnerstwa i innych dokumentach programowych oraz powołaniu Podkomitetu ds. Monitorowania Zasady Partnerstwa przy Komitecie ds. Umowy Partne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raz 16" descr=""/>
          <p:cNvPicPr/>
          <p:nvPr/>
        </p:nvPicPr>
        <p:blipFill>
          <a:blip r:embed="rId1"/>
          <a:stretch/>
        </p:blipFill>
        <p:spPr>
          <a:xfrm>
            <a:off x="6629400" y="990720"/>
            <a:ext cx="22906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</a:t>
            </a:r>
            <a:br>
              <a:rPr sz="3600"/>
            </a:br>
            <a:r>
              <a:rPr b="1" lang="pl-PL" sz="20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. Systematyczna ewaluacja </a:t>
            </a:r>
            <a:br>
              <a:rPr sz="2400"/>
            </a:br>
            <a:r>
              <a:rPr b="1" lang="pl-PL" sz="2400" spc="-1" strike="noStrike">
                <a:solidFill>
                  <a:srgbClr val="006600"/>
                </a:solidFill>
                <a:latin typeface="Arial"/>
              </a:rPr>
              <a:t>realizacji zasady partners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 realizacji w ocenie partnerów społecz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iedostateczna realizacja tego postulatu ( brak badań ewaluacyjnych ukierunkowanych wyłącznie na tą kwestię).  Nadal postulujemy o opracowanie metodologii i zasad oceny realizacji zasady partnerstw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16" descr=""/>
          <p:cNvPicPr/>
          <p:nvPr/>
        </p:nvPicPr>
        <p:blipFill>
          <a:blip r:embed="rId1"/>
          <a:stretch/>
        </p:blipFill>
        <p:spPr>
          <a:xfrm>
            <a:off x="6629400" y="990720"/>
            <a:ext cx="22906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trategia Partnerstwa – postulaty</a:t>
            </a:r>
            <a:br>
              <a:rPr sz="3600"/>
            </a:br>
            <a:r>
              <a:rPr b="1" lang="pl-PL" sz="2000" spc="-1" strike="noStrike">
                <a:solidFill>
                  <a:srgbClr val="006600"/>
                </a:solidFill>
                <a:latin typeface="Arial"/>
              </a:rPr>
              <a:t>4. Okresowa ocena wdrażania </a:t>
            </a:r>
            <a:br>
              <a:rPr sz="2000"/>
            </a:br>
            <a:r>
              <a:rPr b="1" lang="pl-PL" sz="2000" spc="-1" strike="noStrike">
                <a:solidFill>
                  <a:srgbClr val="006600"/>
                </a:solidFill>
                <a:latin typeface="Arial"/>
              </a:rPr>
              <a:t>Strategii Partnerstwa wypracowanej </a:t>
            </a:r>
            <a:br>
              <a:rPr sz="2000"/>
            </a:br>
            <a:r>
              <a:rPr b="1" lang="pl-PL" sz="2000" spc="-1" strike="noStrike">
                <a:solidFill>
                  <a:srgbClr val="006600"/>
                </a:solidFill>
                <a:latin typeface="Arial"/>
              </a:rPr>
              <a:t>przez partnerów społecznych </a:t>
            </a:r>
            <a:br>
              <a:rPr sz="2000"/>
            </a:br>
            <a:r>
              <a:rPr b="1" lang="pl-PL" sz="2000" spc="-1" strike="noStrike">
                <a:solidFill>
                  <a:srgbClr val="006600"/>
                </a:solidFill>
                <a:latin typeface="Arial"/>
              </a:rPr>
              <a:t>i monitoring przestrzegania zasady partnerst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 realizacji w ocenie partnerów społecz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iedostateczna realizacja tego postulatu. Nadal postulujemy 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pracowanie schematu, w tym kryteriów i obszarów, oceny wdrażania strategii partnerst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roczną analizę i ocenę aktywności przedstawicieli partner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połecznych obejmująca udział w KM, w ewaluacji oraz projek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tyczących polityk publi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pracowanie mechanizmu informowania i interwencji podejmowanej przez partnerów społecznych w przypadkach nieprzestrzegania zasady partnerst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6" descr=""/>
          <p:cNvPicPr/>
          <p:nvPr/>
        </p:nvPicPr>
        <p:blipFill>
          <a:blip r:embed="rId1"/>
          <a:stretch/>
        </p:blipFill>
        <p:spPr>
          <a:xfrm>
            <a:off x="6629400" y="990720"/>
            <a:ext cx="22906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in Tumanow</dc:creator>
  <dc:description/>
  <dc:language>en-US</dc:language>
  <cp:lastModifiedBy>NP</cp:lastModifiedBy>
  <dcterms:modified xsi:type="dcterms:W3CDTF">2017-04-03T07:00:15Z</dcterms:modified>
  <cp:revision>3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